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png" ContentType="image/png"/>
  <Override PartName="/ppt/media/image11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DB0-9D17-43D6-846D-66128DCE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05D-55C8-48AF-941F-B6DFD232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3BC-5AF2-4066-932B-F2C1114E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1F8-DA89-4C83-AAF2-6D0B13E8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2E2-52CF-4764-A0DE-A5F4D13C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003-5BE9-4FE5-957D-65D18F44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39B-F016-4E26-B57C-359F000C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2454-7D11-4305-A3A5-8B279BCB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AAA-DA0F-4AFE-9EEB-FC1E84B1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B33E-8184-445C-8AC7-3098B2F1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7A3-3010-47C3-A038-8B2E3F9D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8DF-DD2A-4A1E-AD87-FA0932DC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CA1D-EB58-462A-80F7-A453311746A2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848720" cy="21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ниверзите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агујевцу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акулте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у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895120"/>
            <a:ext cx="86104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ЕЛЕКТРОТЕРАПИЈА</a:t>
            </a:r>
            <a:br>
              <a:rPr sz="3600"/>
            </a:b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-</a:t>
            </a: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Једносмерне</a:t>
            </a: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 </a:t>
            </a: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струје</a:t>
            </a: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303120"/>
            <a:ext cx="14414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блиц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алванск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ру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7162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 u="sng">
                <a:solidFill>
                  <a:srgbClr val="000000"/>
                </a:solidFill>
                <a:uFillTx/>
                <a:latin typeface="Verdana"/>
              </a:rPr>
              <a:t>Галванска</a:t>
            </a:r>
            <a:r>
              <a:rPr b="0" lang="sr-Latn-CS" sz="5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5400" spc="-1" strike="noStrike" u="sng">
                <a:solidFill>
                  <a:srgbClr val="000000"/>
                </a:solidFill>
                <a:uFillTx/>
                <a:latin typeface="Verdana"/>
              </a:rPr>
              <a:t>струј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е мења ток, не мења ни интензитет ни напон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ар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ч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кундар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олош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вор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лванс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мен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умула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заснива се на </a:t>
            </a:r>
            <a:r>
              <a:rPr b="0" lang="sr-CS" sz="2800" spc="-1" strike="noStrike">
                <a:solidFill>
                  <a:srgbClr val="ff0000"/>
                </a:solidFill>
                <a:latin typeface="Verdana"/>
              </a:rPr>
              <a:t>особини поларит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05120" y="914040"/>
            <a:ext cx="5486400" cy="1374840"/>
            <a:chOff x="1905120" y="914040"/>
            <a:chExt cx="5486400" cy="1374840"/>
          </a:xfrm>
        </p:grpSpPr>
        <p:sp>
          <p:nvSpPr>
            <p:cNvPr id="66" name="Line 5"/>
            <p:cNvSpPr/>
            <p:nvPr/>
          </p:nvSpPr>
          <p:spPr>
            <a:xfrm>
              <a:off x="1906920" y="2086200"/>
              <a:ext cx="5484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Line 6"/>
            <p:cNvSpPr/>
            <p:nvPr/>
          </p:nvSpPr>
          <p:spPr>
            <a:xfrm flipV="1">
              <a:off x="1906920" y="914040"/>
              <a:ext cx="0" cy="13748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Line 7"/>
            <p:cNvSpPr/>
            <p:nvPr/>
          </p:nvSpPr>
          <p:spPr>
            <a:xfrm flipV="1">
              <a:off x="1905120" y="1324800"/>
              <a:ext cx="685440" cy="759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2598840" y="1307880"/>
              <a:ext cx="34275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6068520" y="1307880"/>
              <a:ext cx="579960" cy="759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ПРИМАРНО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ФИЗИЧКО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Хемијск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мен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онск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лектрокинетичке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мене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везане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лектроосмозу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ифуз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нафорез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атафоре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3.Поларни и интерполар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371600" y="2971800"/>
            <a:ext cx="152280" cy="228600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Хемијске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омене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јонско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од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898560" y="312408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5486400" y="3200400"/>
            <a:ext cx="380880" cy="30492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Oval 20"/>
          <p:cNvSpPr/>
          <p:nvPr/>
        </p:nvSpPr>
        <p:spPr>
          <a:xfrm>
            <a:off x="4724280" y="4724280"/>
            <a:ext cx="228600" cy="22860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Line 23"/>
          <p:cNvSpPr/>
          <p:nvPr/>
        </p:nvSpPr>
        <p:spPr>
          <a:xfrm>
            <a:off x="4952880" y="464832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Line 24"/>
          <p:cNvSpPr/>
          <p:nvPr/>
        </p:nvSpPr>
        <p:spPr>
          <a:xfrm>
            <a:off x="5638680" y="3124080"/>
            <a:ext cx="152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Line 33"/>
          <p:cNvSpPr/>
          <p:nvPr/>
        </p:nvSpPr>
        <p:spPr>
          <a:xfrm>
            <a:off x="1143000" y="32004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Line 34"/>
          <p:cNvSpPr/>
          <p:nvPr/>
        </p:nvSpPr>
        <p:spPr>
          <a:xfrm>
            <a:off x="1143000" y="350532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36"/>
          <p:cNvSpPr/>
          <p:nvPr/>
        </p:nvSpPr>
        <p:spPr>
          <a:xfrm>
            <a:off x="1143000" y="380988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Line 37"/>
          <p:cNvSpPr/>
          <p:nvPr/>
        </p:nvSpPr>
        <p:spPr>
          <a:xfrm>
            <a:off x="1143000" y="41148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38"/>
          <p:cNvSpPr/>
          <p:nvPr/>
        </p:nvSpPr>
        <p:spPr>
          <a:xfrm>
            <a:off x="1143000" y="441972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39"/>
          <p:cNvSpPr/>
          <p:nvPr/>
        </p:nvSpPr>
        <p:spPr>
          <a:xfrm>
            <a:off x="1143000" y="48006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1523880" y="4952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Garamond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45"/>
          <p:cNvSpPr/>
          <p:nvPr/>
        </p:nvSpPr>
        <p:spPr>
          <a:xfrm>
            <a:off x="1447200" y="2948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Garamond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46"/>
          <p:cNvSpPr/>
          <p:nvPr/>
        </p:nvSpPr>
        <p:spPr>
          <a:xfrm>
            <a:off x="7467480" y="48769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Garamond"/>
              </a:rPr>
              <a:t>HC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47"/>
          <p:cNvSpPr/>
          <p:nvPr/>
        </p:nvSpPr>
        <p:spPr>
          <a:xfrm>
            <a:off x="7474680" y="2771640"/>
            <a:ext cx="77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Garamond"/>
              </a:rPr>
              <a:t>HC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Group 74"/>
          <p:cNvGrpSpPr/>
          <p:nvPr/>
        </p:nvGrpSpPr>
        <p:grpSpPr>
          <a:xfrm>
            <a:off x="8153280" y="2895480"/>
            <a:ext cx="627480" cy="2133720"/>
            <a:chOff x="8153280" y="2895480"/>
            <a:chExt cx="627480" cy="2133720"/>
          </a:xfrm>
        </p:grpSpPr>
        <p:sp>
          <p:nvSpPr>
            <p:cNvPr id="92" name="Rectangle 9"/>
            <p:cNvSpPr/>
            <p:nvPr/>
          </p:nvSpPr>
          <p:spPr>
            <a:xfrm>
              <a:off x="8153280" y="2971800"/>
              <a:ext cx="152280" cy="205740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Text Box 49"/>
            <p:cNvSpPr/>
            <p:nvPr/>
          </p:nvSpPr>
          <p:spPr>
            <a:xfrm>
              <a:off x="8381880" y="3200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Rectangle 51"/>
            <p:cNvSpPr/>
            <p:nvPr/>
          </p:nvSpPr>
          <p:spPr>
            <a:xfrm>
              <a:off x="8471880" y="350532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Rectangle 52"/>
            <p:cNvSpPr/>
            <p:nvPr/>
          </p:nvSpPr>
          <p:spPr>
            <a:xfrm>
              <a:off x="8471880" y="38098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Rectangle 53"/>
            <p:cNvSpPr/>
            <p:nvPr/>
          </p:nvSpPr>
          <p:spPr>
            <a:xfrm>
              <a:off x="8471880" y="419112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Rectangle 54"/>
            <p:cNvSpPr/>
            <p:nvPr/>
          </p:nvSpPr>
          <p:spPr>
            <a:xfrm>
              <a:off x="8471880" y="4572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Rectangle 55"/>
            <p:cNvSpPr/>
            <p:nvPr/>
          </p:nvSpPr>
          <p:spPr>
            <a:xfrm>
              <a:off x="8395560" y="28954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9" name="Text Box 56"/>
          <p:cNvSpPr/>
          <p:nvPr/>
        </p:nvSpPr>
        <p:spPr>
          <a:xfrm>
            <a:off x="533412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" name="Group 59"/>
          <p:cNvGrpSpPr/>
          <p:nvPr/>
        </p:nvGrpSpPr>
        <p:grpSpPr>
          <a:xfrm>
            <a:off x="6629400" y="2971800"/>
            <a:ext cx="380880" cy="749160"/>
            <a:chOff x="6629400" y="2971800"/>
            <a:chExt cx="380880" cy="749160"/>
          </a:xfrm>
        </p:grpSpPr>
        <p:sp>
          <p:nvSpPr>
            <p:cNvPr id="101" name="Oval 60"/>
            <p:cNvSpPr/>
            <p:nvPr/>
          </p:nvSpPr>
          <p:spPr>
            <a:xfrm>
              <a:off x="6629400" y="3200400"/>
              <a:ext cx="304560" cy="152280"/>
            </a:xfrm>
            <a:prstGeom prst="ellipse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Line 61"/>
            <p:cNvSpPr/>
            <p:nvPr/>
          </p:nvSpPr>
          <p:spPr>
            <a:xfrm>
              <a:off x="6781680" y="2971800"/>
              <a:ext cx="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Line 62"/>
            <p:cNvSpPr/>
            <p:nvPr/>
          </p:nvSpPr>
          <p:spPr>
            <a:xfrm>
              <a:off x="6705360" y="3048120"/>
              <a:ext cx="151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Text Box 63"/>
            <p:cNvSpPr/>
            <p:nvPr/>
          </p:nvSpPr>
          <p:spPr>
            <a:xfrm>
              <a:off x="6629400" y="33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" name="Group 65"/>
          <p:cNvGrpSpPr/>
          <p:nvPr/>
        </p:nvGrpSpPr>
        <p:grpSpPr>
          <a:xfrm>
            <a:off x="6629400" y="3886200"/>
            <a:ext cx="304920" cy="380880"/>
            <a:chOff x="6629400" y="3886200"/>
            <a:chExt cx="304920" cy="380880"/>
          </a:xfrm>
        </p:grpSpPr>
        <p:sp>
          <p:nvSpPr>
            <p:cNvPr id="106" name="Oval 66"/>
            <p:cNvSpPr/>
            <p:nvPr/>
          </p:nvSpPr>
          <p:spPr>
            <a:xfrm>
              <a:off x="6629400" y="3962160"/>
              <a:ext cx="228600" cy="304920"/>
            </a:xfrm>
            <a:prstGeom prst="ellipse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Line 67"/>
            <p:cNvSpPr/>
            <p:nvPr/>
          </p:nvSpPr>
          <p:spPr>
            <a:xfrm>
              <a:off x="6782040" y="388620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8" name="Rectangle 68"/>
          <p:cNvSpPr/>
          <p:nvPr/>
        </p:nvSpPr>
        <p:spPr>
          <a:xfrm>
            <a:off x="6479640" y="426708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Oval 69"/>
          <p:cNvSpPr/>
          <p:nvPr/>
        </p:nvSpPr>
        <p:spPr>
          <a:xfrm>
            <a:off x="4800600" y="3200400"/>
            <a:ext cx="228600" cy="15228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70"/>
          <p:cNvSpPr/>
          <p:nvPr/>
        </p:nvSpPr>
        <p:spPr>
          <a:xfrm>
            <a:off x="4710240" y="342900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71"/>
          <p:cNvSpPr/>
          <p:nvPr/>
        </p:nvSpPr>
        <p:spPr>
          <a:xfrm>
            <a:off x="472428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72"/>
          <p:cNvSpPr/>
          <p:nvPr/>
        </p:nvSpPr>
        <p:spPr>
          <a:xfrm flipH="1">
            <a:off x="4190760" y="3276720"/>
            <a:ext cx="5331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73"/>
          <p:cNvSpPr/>
          <p:nvPr/>
        </p:nvSpPr>
        <p:spPr>
          <a:xfrm>
            <a:off x="5867280" y="3352680"/>
            <a:ext cx="685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Oval 75"/>
          <p:cNvSpPr/>
          <p:nvPr/>
        </p:nvSpPr>
        <p:spPr>
          <a:xfrm>
            <a:off x="7772400" y="3429000"/>
            <a:ext cx="380880" cy="30492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Oval 76"/>
          <p:cNvSpPr/>
          <p:nvPr/>
        </p:nvSpPr>
        <p:spPr>
          <a:xfrm>
            <a:off x="7848720" y="3276720"/>
            <a:ext cx="228600" cy="15228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Group 95"/>
          <p:cNvGrpSpPr/>
          <p:nvPr/>
        </p:nvGrpSpPr>
        <p:grpSpPr>
          <a:xfrm>
            <a:off x="2745720" y="2895480"/>
            <a:ext cx="1075320" cy="1815840"/>
            <a:chOff x="2745720" y="2895480"/>
            <a:chExt cx="1075320" cy="1815840"/>
          </a:xfrm>
        </p:grpSpPr>
        <p:sp>
          <p:nvSpPr>
            <p:cNvPr id="117" name="Oval 6"/>
            <p:cNvSpPr/>
            <p:nvPr/>
          </p:nvSpPr>
          <p:spPr>
            <a:xfrm>
              <a:off x="3429000" y="3200400"/>
              <a:ext cx="228600" cy="152280"/>
            </a:xfrm>
            <a:prstGeom prst="ellipse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8" name="Group 58"/>
            <p:cNvGrpSpPr/>
            <p:nvPr/>
          </p:nvGrpSpPr>
          <p:grpSpPr>
            <a:xfrm>
              <a:off x="2819520" y="3962160"/>
              <a:ext cx="380880" cy="749160"/>
              <a:chOff x="2819520" y="3962160"/>
              <a:chExt cx="380880" cy="749160"/>
            </a:xfrm>
          </p:grpSpPr>
          <p:sp>
            <p:nvSpPr>
              <p:cNvPr id="119" name="Oval 7"/>
              <p:cNvSpPr/>
              <p:nvPr/>
            </p:nvSpPr>
            <p:spPr>
              <a:xfrm>
                <a:off x="2819520" y="4190760"/>
                <a:ext cx="304560" cy="152280"/>
              </a:xfrm>
              <a:prstGeom prst="ellipse">
                <a:avLst/>
              </a:prstGeom>
              <a:solidFill>
                <a:srgbClr val="4f81bd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Line 31"/>
              <p:cNvSpPr/>
              <p:nvPr/>
            </p:nvSpPr>
            <p:spPr>
              <a:xfrm>
                <a:off x="2971800" y="3962160"/>
                <a:ext cx="0" cy="1522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Line 32"/>
              <p:cNvSpPr/>
              <p:nvPr/>
            </p:nvSpPr>
            <p:spPr>
              <a:xfrm>
                <a:off x="2895480" y="4038480"/>
                <a:ext cx="151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Text Box 43"/>
              <p:cNvSpPr/>
              <p:nvPr/>
            </p:nvSpPr>
            <p:spPr>
              <a:xfrm>
                <a:off x="2819520" y="4343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aramond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3" name="Rectangle 77"/>
            <p:cNvSpPr/>
            <p:nvPr/>
          </p:nvSpPr>
          <p:spPr>
            <a:xfrm>
              <a:off x="3338640" y="327636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N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Rectangle 78"/>
            <p:cNvSpPr/>
            <p:nvPr/>
          </p:nvSpPr>
          <p:spPr>
            <a:xfrm>
              <a:off x="3366360" y="28954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5" name="Group 79"/>
            <p:cNvGrpSpPr/>
            <p:nvPr/>
          </p:nvGrpSpPr>
          <p:grpSpPr>
            <a:xfrm>
              <a:off x="2819520" y="3124080"/>
              <a:ext cx="304200" cy="380880"/>
              <a:chOff x="2819520" y="3124080"/>
              <a:chExt cx="304200" cy="380880"/>
            </a:xfrm>
          </p:grpSpPr>
          <p:sp>
            <p:nvSpPr>
              <p:cNvPr id="126" name="Oval 80"/>
              <p:cNvSpPr/>
              <p:nvPr/>
            </p:nvSpPr>
            <p:spPr>
              <a:xfrm>
                <a:off x="2819520" y="3200040"/>
                <a:ext cx="228240" cy="304920"/>
              </a:xfrm>
              <a:prstGeom prst="ellipse">
                <a:avLst/>
              </a:prstGeom>
              <a:solidFill>
                <a:srgbClr val="4f81bd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Line 81"/>
              <p:cNvSpPr/>
              <p:nvPr/>
            </p:nvSpPr>
            <p:spPr>
              <a:xfrm>
                <a:off x="2971800" y="3124080"/>
                <a:ext cx="151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8" name="Rectangle 82"/>
            <p:cNvSpPr/>
            <p:nvPr/>
          </p:nvSpPr>
          <p:spPr>
            <a:xfrm>
              <a:off x="2745720" y="342900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9" name="Group 83"/>
          <p:cNvGrpSpPr/>
          <p:nvPr/>
        </p:nvGrpSpPr>
        <p:grpSpPr>
          <a:xfrm>
            <a:off x="1523880" y="3352680"/>
            <a:ext cx="304920" cy="380880"/>
            <a:chOff x="1523880" y="3352680"/>
            <a:chExt cx="304920" cy="380880"/>
          </a:xfrm>
        </p:grpSpPr>
        <p:sp>
          <p:nvSpPr>
            <p:cNvPr id="130" name="Oval 84"/>
            <p:cNvSpPr/>
            <p:nvPr/>
          </p:nvSpPr>
          <p:spPr>
            <a:xfrm>
              <a:off x="1523880" y="3428640"/>
              <a:ext cx="228600" cy="304920"/>
            </a:xfrm>
            <a:prstGeom prst="ellipse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85"/>
            <p:cNvSpPr/>
            <p:nvPr/>
          </p:nvSpPr>
          <p:spPr>
            <a:xfrm>
              <a:off x="1676520" y="335268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Oval 86"/>
          <p:cNvSpPr/>
          <p:nvPr/>
        </p:nvSpPr>
        <p:spPr>
          <a:xfrm>
            <a:off x="1676520" y="3352680"/>
            <a:ext cx="228600" cy="15264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87"/>
          <p:cNvSpPr/>
          <p:nvPr/>
        </p:nvSpPr>
        <p:spPr>
          <a:xfrm>
            <a:off x="480060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88"/>
          <p:cNvSpPr/>
          <p:nvPr/>
        </p:nvSpPr>
        <p:spPr>
          <a:xfrm>
            <a:off x="259092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2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Oval 89"/>
          <p:cNvSpPr/>
          <p:nvPr/>
        </p:nvSpPr>
        <p:spPr>
          <a:xfrm>
            <a:off x="7772400" y="4419720"/>
            <a:ext cx="380880" cy="30456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Oval 90"/>
          <p:cNvSpPr/>
          <p:nvPr/>
        </p:nvSpPr>
        <p:spPr>
          <a:xfrm>
            <a:off x="7848720" y="4267080"/>
            <a:ext cx="228600" cy="15264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7" name="Group 91"/>
          <p:cNvGrpSpPr/>
          <p:nvPr/>
        </p:nvGrpSpPr>
        <p:grpSpPr>
          <a:xfrm>
            <a:off x="1523880" y="4495680"/>
            <a:ext cx="304920" cy="380880"/>
            <a:chOff x="1523880" y="4495680"/>
            <a:chExt cx="304920" cy="380880"/>
          </a:xfrm>
        </p:grpSpPr>
        <p:sp>
          <p:nvSpPr>
            <p:cNvPr id="138" name="Oval 92"/>
            <p:cNvSpPr/>
            <p:nvPr/>
          </p:nvSpPr>
          <p:spPr>
            <a:xfrm>
              <a:off x="1523880" y="4571640"/>
              <a:ext cx="228600" cy="304920"/>
            </a:xfrm>
            <a:prstGeom prst="ellipse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93"/>
            <p:cNvSpPr/>
            <p:nvPr/>
          </p:nvSpPr>
          <p:spPr>
            <a:xfrm>
              <a:off x="1676520" y="449568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" name="Oval 94"/>
          <p:cNvSpPr/>
          <p:nvPr/>
        </p:nvSpPr>
        <p:spPr>
          <a:xfrm>
            <a:off x="1600200" y="4419720"/>
            <a:ext cx="228600" cy="15228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96"/>
          <p:cNvSpPr/>
          <p:nvPr/>
        </p:nvSpPr>
        <p:spPr>
          <a:xfrm>
            <a:off x="6248520" y="4952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2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97"/>
          <p:cNvSpPr/>
          <p:nvPr/>
        </p:nvSpPr>
        <p:spPr>
          <a:xfrm>
            <a:off x="7696080" y="2133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NO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98"/>
          <p:cNvSpPr/>
          <p:nvPr/>
        </p:nvSpPr>
        <p:spPr>
          <a:xfrm>
            <a:off x="914400" y="21337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ATO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99"/>
          <p:cNvSpPr/>
          <p:nvPr/>
        </p:nvSpPr>
        <p:spPr>
          <a:xfrm flipH="1">
            <a:off x="609120" y="3962520"/>
            <a:ext cx="7621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100"/>
          <p:cNvSpPr/>
          <p:nvPr/>
        </p:nvSpPr>
        <p:spPr>
          <a:xfrm>
            <a:off x="609480" y="3962520"/>
            <a:ext cx="0" cy="2209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101"/>
          <p:cNvSpPr/>
          <p:nvPr/>
        </p:nvSpPr>
        <p:spPr>
          <a:xfrm>
            <a:off x="609480" y="6172200"/>
            <a:ext cx="3429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102"/>
          <p:cNvSpPr/>
          <p:nvPr/>
        </p:nvSpPr>
        <p:spPr>
          <a:xfrm>
            <a:off x="4724280" y="6172200"/>
            <a:ext cx="4114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103"/>
          <p:cNvSpPr/>
          <p:nvPr/>
        </p:nvSpPr>
        <p:spPr>
          <a:xfrm flipV="1">
            <a:off x="8839080" y="3886200"/>
            <a:ext cx="0" cy="228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104"/>
          <p:cNvSpPr/>
          <p:nvPr/>
        </p:nvSpPr>
        <p:spPr>
          <a:xfrm flipH="1">
            <a:off x="8305560" y="3886200"/>
            <a:ext cx="533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105"/>
          <p:cNvSpPr/>
          <p:nvPr/>
        </p:nvSpPr>
        <p:spPr>
          <a:xfrm>
            <a:off x="4038480" y="5867280"/>
            <a:ext cx="0" cy="6098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106"/>
          <p:cNvSpPr/>
          <p:nvPr/>
        </p:nvSpPr>
        <p:spPr>
          <a:xfrm>
            <a:off x="4724280" y="6019920"/>
            <a:ext cx="0" cy="30456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07"/>
          <p:cNvSpPr/>
          <p:nvPr/>
        </p:nvSpPr>
        <p:spPr>
          <a:xfrm>
            <a:off x="530280" y="54626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olikvacion</a:t>
            </a:r>
            <a:r>
              <a:rPr b="1" lang="sr-CS" sz="2000" spc="-1" strike="noStrike">
                <a:solidFill>
                  <a:srgbClr val="000000"/>
                </a:solidFill>
                <a:latin typeface="Garamond"/>
              </a:rPr>
              <a:t>а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ekroz</a:t>
            </a:r>
            <a:r>
              <a:rPr b="1" lang="sr-CS" sz="2000" spc="-1" strike="noStrike">
                <a:solidFill>
                  <a:srgbClr val="000000"/>
                </a:solidFill>
                <a:latin typeface="Garamond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08"/>
          <p:cNvSpPr/>
          <p:nvPr/>
        </p:nvSpPr>
        <p:spPr>
          <a:xfrm>
            <a:off x="6477120" y="5562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Garamond"/>
              </a:rPr>
              <a:t>К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agulaciona nekro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09"/>
          <p:cNvSpPr/>
          <p:nvPr/>
        </p:nvSpPr>
        <p:spPr>
          <a:xfrm>
            <a:off x="334080" y="63244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aramond"/>
              </a:rPr>
              <a:t>2Na + 2HOH = 2NaOH + H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110"/>
          <p:cNvSpPr/>
          <p:nvPr/>
        </p:nvSpPr>
        <p:spPr>
          <a:xfrm>
            <a:off x="4648320" y="6324480"/>
            <a:ext cx="4495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aramond"/>
              </a:rPr>
              <a:t>4Cl + 2HOH = 4HCl + 0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марно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в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Ан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исе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ед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алге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тиедематоз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агулацио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р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ермеабил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мостс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афоре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ше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мирујућ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990720"/>
            <a:ext cx="449568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558ed5"/>
                </a:solidFill>
                <a:latin typeface="Calibri"/>
              </a:rPr>
              <a:t>Кат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аз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ед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етљивос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купљ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ликвацио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р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ермеабил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мостс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купљ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дражај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екундарно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алванск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ру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ну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омо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ну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ши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дул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фи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табол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ВА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СЕКУНДАРНО</a:t>
            </a:r>
            <a:r>
              <a:rPr b="0" lang="en-AU" sz="4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ФИЗИОЛОШКО</a:t>
            </a:r>
            <a:r>
              <a:rPr b="0" lang="en-AU" sz="4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словље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деловање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нервне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завршетке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и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рецепто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вазомотор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вазодилатациј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кож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ишићим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оторн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ерв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тонус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ишић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нелектротонус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кателектротону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ензитивн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ерв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обољшав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ферентацију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екстеро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роприцепт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ензибилите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рецептор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бол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одулациј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бол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налгезиј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Verdana"/>
              </a:rPr>
              <a:t>испод</a:t>
            </a:r>
            <a:r>
              <a:rPr b="0" lang="en-AU" sz="2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Verdana"/>
              </a:rPr>
              <a:t>анод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на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ћелије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и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тки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овећав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ропустљивост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ћел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ембр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ктивност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ћел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ензи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етаболиз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озитивно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ТРОФИЧКО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оуспешује процес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РЕГЕНЕРАЦИЈЕ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3760" y="27432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ТЕРАПИЈСКА</a:t>
            </a:r>
            <a:r>
              <a:rPr b="0" lang="en-AU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ПРИМЕ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већа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ртеријск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енск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циркулациј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м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крвљеност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ож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ишић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других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кив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роз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ој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тич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с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Ресорпциј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кстравазат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лиминацицј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етаболит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мање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бол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мање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дражљивост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ензитивних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рав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већа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дражљивост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оторних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рав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јача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биолошк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ктивност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ћелиј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рофик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кив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цес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репарациј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регенерациј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оказивањ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т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вија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т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pH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т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лобађа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оказивањ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кл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аш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ли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л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пуњ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олошк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створ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а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а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аш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ип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п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фенолфталеин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д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а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о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руг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т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ључ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нтакт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гативни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енолфталеи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казу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рве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мест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енофтала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лакмус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пи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де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о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ј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рве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де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тод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ав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Електро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Облас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физикалн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терапиј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ја кори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ичн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нерг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охемијска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р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елује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ервн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рецептор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ер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ћелиј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кив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роз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ј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лази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лектрод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Bergoni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ума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chik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cherb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в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коврат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Werm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гмас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ампо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2819520" y="3505320"/>
            <a:ext cx="60958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тодик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мен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ирек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пил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pl Kieselbach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онгитудина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ансферза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величи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нополар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иполар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мер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тр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сцедент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сцедент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94640" cy="11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Апликација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галванске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Verdana"/>
              </a:rPr>
              <a:t>лонгитудиналн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Verdana"/>
              </a:rPr>
              <a:t>галванизациј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лектрод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ставље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рајевим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ретирано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ел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однос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уж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кстремите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6" descr="HPIM0226"/>
          <p:cNvPicPr/>
          <p:nvPr/>
        </p:nvPicPr>
        <p:blipFill>
          <a:blip r:embed="rId1"/>
          <a:stretch/>
        </p:blipFill>
        <p:spPr>
          <a:xfrm>
            <a:off x="4267080" y="2286000"/>
            <a:ext cx="469584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Трансверзална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апликациј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5715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Дозирање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галванске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ачин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 (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вршин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лектрод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цм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Густина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цм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4.Трајањ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цедур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(10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0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ин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Број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цедур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дној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ер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ериј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= 10 - 15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цед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4000" y="274320"/>
            <a:ext cx="863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Индикације</a:t>
            </a:r>
            <a:r>
              <a:rPr b="0" lang="sr-Latn-C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за С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152640" y="761760"/>
            <a:ext cx="9296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Неуролошке: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бољења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овред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ериферних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ер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еуралгиј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еуропатиј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омпресивн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адикулопат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лексопат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- мијалг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- атрофиј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арализ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иш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Посттрауматска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стања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гд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ожа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нтакт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Реуматска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обољења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Запаљењск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еуматизам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у хроничној фаз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егенеративн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еумат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Ванзглобн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еумат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клузивна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васкуларна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обољења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кстрем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фазама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I-II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о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Фон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у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darteritis obl,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атеросклероз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ијабетич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васкулопатиј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aunaud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болест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ромрзлине 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руг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злед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рвних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уд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од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рофичких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ромена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д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електродијагности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Контраиндикације за СГ</a:t>
            </a:r>
            <a:r>
              <a:rPr b="0" lang="en-AU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крварењ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колоност ка крварењу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фебрилн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тањ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нфективна обољењ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локалн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кутн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пал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зглобов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лућ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декомпазациј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рца,плућа,бубрега,јетре..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ТБ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присусутв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метал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н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месту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апликације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оштећењ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коже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н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месту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где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треб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д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се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апликују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електро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алигн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тумор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Специјални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облици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прим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21337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952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егативн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олиза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ерматологија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Јонофореза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стоматологија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Хидрогалванск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уп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Verdana"/>
              </a:rPr>
              <a:t>Електрофореза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Verdana"/>
              </a:rPr>
              <a:t>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1.Негативн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лектролиз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контролисану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деструкцију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ткив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устични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фект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гативн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сразмер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Негатив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атинс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г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во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олику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ла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зметич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рх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руч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ж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расли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умор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Инактив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личи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ла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ћ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пила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тензите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1-2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ајањ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2-3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умор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ж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5-2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ајањ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30-6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упа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а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дика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hipertrichos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erucc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елоид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жиља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2.Јонофорез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упа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оли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гатив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ерилиза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на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ре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у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чнос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е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г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дећ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фека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о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о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ржава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тим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иапикал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антизапаљенски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ефекат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бактерицид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фека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товрем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ерилизац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на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мекш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нтинс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чи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олакшава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ширење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кана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rpedo california i marmor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3.Хидрогалванск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дроелектричн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уп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19047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лваниз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во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еб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ласти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пуње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одом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иј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идов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грађ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фит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од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мењ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окал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ш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идроелектрич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пк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алванск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ад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190760" cy="4419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495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алванск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а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809880" cy="56386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етвороћелијск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уп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дрогалванс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Локалн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хидроелектричн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уп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ењу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дно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јчешћ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а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лака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опал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колениц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урања се у воду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о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једноћелијс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кстремите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воћелијск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кстремите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четвороћелијск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уп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товреме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лванизаци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етир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кстремите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и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л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ич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36-37º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есни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у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вије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актов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ећи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длакти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г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колени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ти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ључ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у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ир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арите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Општ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хидроелектричн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упк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дрогаванск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во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лико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лванс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ији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идов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чвршће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д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роње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лик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а.Служ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лванизаци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ел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ла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есни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уз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уседећ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арите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о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гућнос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рој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мбина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чи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у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нос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30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50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ај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цедур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15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олик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о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фек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ж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маж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азелин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Електрофореза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2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ранскутано уношење лекова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еко интактне коже, у организам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моћу галванске струј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ко је растворљив у води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ко се лек у воденом раствору налази дисоцира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ktroforeza lek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Object 10"/>
          <p:cNvGraphicFramePr/>
          <p:nvPr/>
        </p:nvGraphicFramePr>
        <p:xfrm>
          <a:off x="1295280" y="609480"/>
          <a:ext cx="75438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09480"/>
                    <a:ext cx="75438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Електрофореза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440" y="17524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Verdana"/>
              </a:rPr>
              <a:t>Дужина третма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зрачунава 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и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нкретн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е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читамо из табеле и делимо са бројем м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ји представљају субјективни праг надражљивости за болес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Chatzk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в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глед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Hitorff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гле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ла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ли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hatzk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гле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ла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е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омпи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abatut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гле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ртв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кив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ивотињск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рек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ch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edu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ет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ивотињс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4495680" y="243828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Leduck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л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казу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лаз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оз жи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овање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лван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ру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 је битан полатит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Историјат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електро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римс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ека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Scribonius Largu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и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и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лавобољ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о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ђи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дир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иб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Torpedo Marmor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Verdana"/>
              </a:rPr>
              <a:t>врст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Verdana"/>
              </a:rPr>
              <a:t>жаб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edanios dioscorid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Verdana"/>
              </a:rPr>
              <a:t>доди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Verdana"/>
              </a:rPr>
              <a:t>риб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Torpedo Marmorat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Најчешће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коришћени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лекови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52120" y="198072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1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анод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нос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Verdana"/>
              </a:rPr>
              <a:t>Новока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Verdana"/>
              </a:rPr>
              <a:t>Хистамин</a:t>
            </a:r>
            <a:r>
              <a:rPr b="0" lang="en-AU" sz="2800" spc="-1" strike="noStrike">
                <a:solidFill>
                  <a:srgbClr val="ff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Verdana"/>
              </a:rPr>
              <a:t>Редергин</a:t>
            </a:r>
            <a:r>
              <a:rPr b="0" lang="en-AU" sz="2800" spc="-1" strike="noStrike">
                <a:solidFill>
                  <a:srgbClr val="ff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Verdana"/>
              </a:rPr>
              <a:t>Кортикостероиди</a:t>
            </a:r>
            <a:r>
              <a:rPr b="0" lang="en-AU" sz="2800" spc="-1" strike="noStrike">
                <a:solidFill>
                  <a:srgbClr val="ff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Најчешће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коришћени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лек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66320" y="19810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катоде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b0f0"/>
                </a:solidFill>
                <a:latin typeface="Verdana"/>
              </a:rPr>
              <a:t>КЈ</a:t>
            </a:r>
            <a:r>
              <a:rPr b="1" lang="en-AU" sz="3200" spc="-1" strike="noStrike">
                <a:solidFill>
                  <a:srgbClr val="00b0f0"/>
                </a:solidFill>
                <a:latin typeface="Verdana"/>
              </a:rPr>
              <a:t> (</a:t>
            </a:r>
            <a:r>
              <a:rPr b="1" lang="sr-CS" sz="3200" spc="-1" strike="noStrike">
                <a:solidFill>
                  <a:srgbClr val="00b0f0"/>
                </a:solidFill>
                <a:latin typeface="Verdana"/>
              </a:rPr>
              <a:t>калијум</a:t>
            </a:r>
            <a:r>
              <a:rPr b="1" lang="en-AU" sz="3200" spc="-1" strike="noStrike">
                <a:solidFill>
                  <a:srgbClr val="00b0f0"/>
                </a:solidFill>
                <a:latin typeface="Verdana"/>
              </a:rPr>
              <a:t> </a:t>
            </a:r>
            <a:r>
              <a:rPr b="1" lang="sr-CS" sz="3200" spc="-1" strike="noStrike">
                <a:solidFill>
                  <a:srgbClr val="00b0f0"/>
                </a:solidFill>
                <a:latin typeface="Verdana"/>
              </a:rPr>
              <a:t>јод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b0f0"/>
                </a:solidFill>
                <a:latin typeface="Verdana"/>
              </a:rPr>
              <a:t>Кристални</a:t>
            </a:r>
            <a:r>
              <a:rPr b="1" lang="en-AU" sz="3200" spc="-1" strike="noStrike">
                <a:solidFill>
                  <a:srgbClr val="00b0f0"/>
                </a:solidFill>
                <a:latin typeface="Verdana"/>
              </a:rPr>
              <a:t> </a:t>
            </a:r>
            <a:r>
              <a:rPr b="1" lang="sr-CS" sz="3200" spc="-1" strike="noStrike">
                <a:solidFill>
                  <a:srgbClr val="00b0f0"/>
                </a:solidFill>
                <a:latin typeface="Verdana"/>
              </a:rPr>
              <a:t>пеницилин</a:t>
            </a:r>
            <a:r>
              <a:rPr b="1" lang="en-AU" sz="3200" spc="-1" strike="noStrike">
                <a:solidFill>
                  <a:srgbClr val="00b0f0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b0f0"/>
                </a:solidFill>
                <a:latin typeface="Verdana"/>
              </a:rPr>
              <a:t>Тиомуказа</a:t>
            </a:r>
            <a:r>
              <a:rPr b="1" lang="en-AU" sz="3200" spc="-1" strike="noStrike">
                <a:solidFill>
                  <a:srgbClr val="00b0f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ед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уношењ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леков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офорезом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066320" y="18288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трахова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ејств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инерг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окал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збегавањ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гастрич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нтолеран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заобилажењ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рвоток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тр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безбол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цед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Недостаци електрофорезе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носе се само неки лек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ешкоћ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озирањ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икад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ециз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одреди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личи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нето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ек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цед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рај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релати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уг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треб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па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пликациј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галванск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 и обучен када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е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носи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ам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ек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нтакт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ж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лектричн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шок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р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игур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ни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U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по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: R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по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по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оти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иља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угод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нз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по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лаж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100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рикулар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брил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аталн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ход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екоти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мијс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мич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;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рак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лик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шићн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уп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мб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;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pace mak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и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ек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 користити продужни кабал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моћ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дар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руј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вад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б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тичн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вер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ул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с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еђе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кордијал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дарац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сто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рдиопулмонал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ани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ш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ли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по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м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ко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дренали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докаи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тропи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Б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Историјат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електротерап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илбер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600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открив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лектрицит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алван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789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открив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једносмерн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ују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алванск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уј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ол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789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онструиш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в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ештач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зво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алванск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уј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нглес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изича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араде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831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налаз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изменичн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уј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иск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реквенц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арадизациј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'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рсонва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ранцус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биоло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1892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вод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ерапиј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изменичн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уј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исок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реквенциј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1957. Bernard  D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1972. T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Подела</a:t>
            </a:r>
            <a:r>
              <a:rPr b="0" lang="sr-Latn-C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електро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дносмер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дносмер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нстант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дносмер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мпулс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аизменич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искофреквент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редњефреквент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Високофреквент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88282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Једносмерн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12952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Једносмерне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рује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 (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 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	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1.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Једносмерна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галванска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струја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абилн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алванизациј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	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2.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Специјални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облици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примене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галванске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струје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гативн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електроли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јонофорез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ц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хидрогалванск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хидроелектричн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куп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д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електрофорез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леко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II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Једносмерне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импулсне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руј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(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о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0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z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Leduck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в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Bernard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в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ДС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ц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експоненцијалн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варшчик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д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модулисан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8661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Наизменичне</a:t>
            </a:r>
            <a:r>
              <a:rPr b="0" lang="sr-Latn-C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III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атички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електрицитет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франклинизација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IV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аизменичне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р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ниск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о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0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арадск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транскута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електриш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урал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имула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ТЕНС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редњ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ко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0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редњ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интерферентн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mec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инусоидно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модулисан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Руск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имула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3.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Високофреквентн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- 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ко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.000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'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Арсонвализа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.000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уготалас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јатерм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500.000 - 1.000.000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ц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краткоталас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јатерм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0-100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М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ултракараткоталас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јатерм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434,78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М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микроталас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јатерм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2.450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H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Биофизичк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снов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дејств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тру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овечи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ож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ство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ол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ич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водљив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јбољ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во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мф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кво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т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ренхим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шић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а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водниц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ти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во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ж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ок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ла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08:48:43Z</dcterms:created>
  <dc:creator>WIN98SE</dc:creator>
  <dc:description/>
  <dc:language>en-US</dc:language>
  <cp:lastModifiedBy>Info</cp:lastModifiedBy>
  <dcterms:modified xsi:type="dcterms:W3CDTF">2018-10-11T08:41:14Z</dcterms:modified>
  <cp:revision>79</cp:revision>
  <dc:subject/>
  <dc:title>Elektroterapija</dc:title>
</cp:coreProperties>
</file>